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D86-0AA7-46B6-B9FC-930A8627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625-F044-4764-8F64-24CB4F69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40A-E537-4DDE-AC6A-AA7D30FC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2A2-3601-4D53-B4CB-17425D62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9C47-591C-4F01-9B70-0AA82E92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C8B7-94E1-43A7-8124-89C0E23C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7049-4C8E-4BBD-B9BA-A8366FEB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C8CB-E1D7-497C-98AF-C7E9C3B1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3289-9F30-4DBA-B383-C4AFDAF5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7C91-B5B6-48C5-B6EE-AA68A96A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E34A-08E5-4B8A-A2F2-8E52864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57F-D958-43A8-9298-D018F722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FA70-D7CF-4EC7-B109-9503587C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BC3F-F02E-477A-AE01-411F3D80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3C38-5A96-429A-92B1-F43B6D39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831-5181-43FB-AA60-257713AD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30D6-E7C7-4821-A387-EA6C32B6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C6D-47A4-4152-B7A4-F7228CE0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943-D9B2-4410-B527-935ADE7E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A94-5613-42DF-919F-526C8A05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AB9-749F-4AA9-8D8B-2C9D0EB9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5E2-C5C4-4098-B85A-43AE340A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F44-4154-40AC-9A99-AA52CB0B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767-85F0-4EEF-9F4D-64A4AA55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A4AA-EDE1-4A0A-9D2D-582C38B5E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12C1-213E-40B6-BC2D-FAF6AD849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e42f"/>
                </a:solidFill>
                <a:latin typeface="Arial"/>
              </a:rPr>
              <a:t>How are symbols used to compare numbers?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e42f"/>
                </a:solidFill>
                <a:latin typeface="Arial"/>
              </a:rPr>
              <a:t>What sign do I use to show that both sides of an equation are equal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+3   =      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     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+5       =    3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e42f"/>
                </a:solidFill>
                <a:latin typeface="Arial"/>
              </a:rPr>
              <a:t>How do I show that the sides of an equation are not equal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+ 5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Symbol" charset="2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+4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2+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e42f"/>
                </a:solidFill>
                <a:latin typeface="Arial"/>
              </a:rPr>
              <a:t>What symbols can I use to compare numbers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543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ing the “Less Than” Symbo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7432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3040" y="388620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ss than signs points to the smaller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4419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Symbol" charset="2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 is less than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Symbol" charset="2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 is less than 3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e42f"/>
                </a:solidFill>
                <a:latin typeface="Arial"/>
              </a:rPr>
              <a:t>Introducing the greater than sign!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er than sign eats the bigger numb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02920" y="27432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3733920"/>
            <a:ext cx="565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Symbol" charset="2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 is greater than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 is greater than 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Let’s try some now!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07:49Z</dcterms:created>
  <dc:creator>West Shore  School District</dc:creator>
  <dc:description/>
  <dc:language>en-US</dc:language>
  <cp:lastModifiedBy>West Shore  School District</cp:lastModifiedBy>
  <dcterms:modified xsi:type="dcterms:W3CDTF">2008-10-30T20:14:38Z</dcterms:modified>
  <cp:revision>2</cp:revision>
  <dc:subject/>
  <dc:title>How are symbols used to compare numbers?</dc:title>
</cp:coreProperties>
</file>